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AED-3C5E-4557-87FE-C4015B73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839-C7E1-46EE-9356-954EA64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C64-0BFF-486B-9C63-4CFF6B7F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5C7-8228-49D9-A99B-EFC45CF0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E64-6C74-455A-8F82-A2BBBA2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3E4-8F17-4984-A7BE-523B15A8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538-FF9B-46E3-8622-78DFCCCA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329-E6EE-4BE7-97A0-9A906BA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B1F-A7F0-4F13-8BFA-072B544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B70-F219-48A6-9A0E-AA8BA45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3A1-0FD7-4586-9062-DDB55F0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975-11E7-4131-B919-14D597A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F85-AAE9-4434-8B79-6FB19E6A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hefloweringearth0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которые свойства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7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573360"/>
            <a:ext cx="776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рок геометрии в дистанционной форме. 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229360"/>
            <a:ext cx="8280360" cy="132624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ошу в рабочих тетрадях поддерживать чистоту и поря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Аккуратно писать «Классная работа», «Домашняя рабо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тавить дату выполнения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ее задание от 7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5329080" cy="393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2920" y="2276640"/>
            <a:ext cx="38703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данным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длину 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е свойств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1608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тье свойств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5928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88360" cy="4524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981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ти неизвестный элемент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341360"/>
            <a:ext cx="7272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§3, раздел 35 - Некоторые свойства прямоугольных треугольников,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ь эти свойств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задачу, прислать фото решения сегодня до 18 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4005360"/>
            <a:ext cx="5724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о геометрии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4.04.202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437000"/>
            <a:ext cx="741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floweringearth0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адрес  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09T09:59:20Z</dcterms:modified>
  <cp:revision>44</cp:revision>
  <dc:subject/>
  <dc:title>Слайд 1</dc:title>
</cp:coreProperties>
</file>